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412-8A66-457E-A313-A761B03B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06E-9150-4EAD-B6B2-62EDDE3A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C39-A61B-4F2A-94CC-AE02EB33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E0C-1312-429A-B6A3-3CF71C47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2DB-92DD-4DC7-A457-AF32F6A2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6F8-D6C6-4485-B621-2085B985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C02-3CCD-4369-AD71-59469F8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067-0EBE-4423-90FA-9F2958AB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6BF-28DD-4806-B1CB-3EAB44E2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29A-080B-4AF5-9C23-68FBA42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50D-190B-4D7F-8326-14831EF6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5A1-EC60-4C42-8EAC-A9BA6AF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0509-43AB-4C10-B44C-51622993EB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852640"/>
            <a:ext cx="5651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قلب يسوع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صلحنا وسل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بيحة الخطأ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لاص الراج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جاء الـمائت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نعيم جميع القديسين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443700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46880"/>
            <a:ext cx="2376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144000" cy="10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4221000"/>
            <a:ext cx="5651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33360"/>
            <a:ext cx="6084720" cy="66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5546880"/>
            <a:ext cx="29876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7956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35240" y="5157720"/>
            <a:ext cx="1456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0" y="4046400"/>
            <a:ext cx="7019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بن الآب الأزلي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صور من الروح القدس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في أحشاء الوالدة البتول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تحد جوهرياً بكلمة الله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2160360" y="2709000"/>
            <a:ext cx="5832360" cy="151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-243000"/>
            <a:ext cx="5689440" cy="314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ا العظمة غير المتناهية 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هيكل الله المقد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باء الرب الع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بيت الله وباب السماء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آتون المحبة المضطرم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نزل العدل و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فعم جوداً وح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جة الفضائل كله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جدير بكل تسبح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لك جميع القلوب ومركزه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655640"/>
            <a:ext cx="752472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لحاوي كل كنوز الحكمة والع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سكن ملء اللاهوت ك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سرور الآب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ذي من فيضه أخذنا جميع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غبة الآكام الدهر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طويل الأناة والكثير الرح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غني لكل من يدعون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نبوع الحياة والقداس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ضحية عن آث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وسع عاراً لأجل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نسحق لأجل أرجاس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يع حتى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عون بالحر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صدر كل تعز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حياتنا وقيامت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-</cp:lastModifiedBy>
  <dcterms:modified xsi:type="dcterms:W3CDTF">2003-01-14T17:34:41Z</dcterms:modified>
  <cp:revision>21</cp:revision>
  <dc:subject/>
  <dc:title>كيرياليسون، كريستياليسون، كيرياليسون  يا ربنا يسوع المسيح أنصت إلينا  إستجبنا </dc:title>
</cp:coreProperties>
</file>